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28129"/>
        <c:axId val="93426409"/>
      </c:barChart>
      <c:catAx>
        <c:axId val="92128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26409"/>
        <c:crosses val="autoZero"/>
        <c:auto val="1"/>
        <c:lblAlgn val="ctr"/>
        <c:lblOffset val="100"/>
        <c:noMultiLvlLbl val="0"/>
      </c:catAx>
      <c:valAx>
        <c:axId val="934264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28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E44-2C9C-4793-B521-459851D3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9FCE-9F2B-49E5-84AA-D43C17B5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D4D-D66A-496E-A3A0-F1460E6C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622-89F8-45D1-898D-5654F90B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E68-3DA6-43D9-A177-9AA53CA8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00CC-E33B-4837-881E-B65F8D3F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C70-454C-41F7-B2BD-466F834B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96CB-83E8-4BAF-998B-755EE31A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609-CD36-4AB9-85F4-8FE98984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986-AF28-4B87-B89D-D74B259F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0414-709E-4E57-83A1-8AFA0DB8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564-5FF0-469A-A7D7-5D125B17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A6900-D7C7-43BF-9DC8-23F0868DC7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