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31061"/>
        <c:axId val="99018424"/>
      </c:barChart>
      <c:catAx>
        <c:axId val="45131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18424"/>
        <c:crosses val="autoZero"/>
        <c:auto val="1"/>
        <c:lblAlgn val="ctr"/>
        <c:lblOffset val="100"/>
        <c:noMultiLvlLbl val="0"/>
      </c:catAx>
      <c:valAx>
        <c:axId val="99018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31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0A8-CDDF-4BEF-BF0F-C6DD8A6A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84C-002A-4F93-B428-BFE4E3AC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136-F4F3-48F8-BC4B-81087980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6CC-4202-405C-91E1-02429565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062-1361-4123-8781-AF4ED5E4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A81-B979-4C6B-99A0-42E1AAA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9AC-D206-47FA-8B96-CF37B5C1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EB9-D37E-4626-AA61-9013F09C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1D0-0913-4AC1-97FE-97249726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17F-A45B-4E9D-8151-91A669B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D9A-65C1-48C4-A026-7704E2B6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F69-21FF-46EE-B852-22243860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21862-C638-4399-A6ED-4A45C250FE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