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042422"/>
        <c:axId val="29432233"/>
      </c:barChart>
      <c:catAx>
        <c:axId val="220424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432233"/>
        <c:crosses val="autoZero"/>
        <c:auto val="1"/>
        <c:lblAlgn val="ctr"/>
        <c:lblOffset val="100"/>
        <c:noMultiLvlLbl val="0"/>
      </c:catAx>
      <c:valAx>
        <c:axId val="294322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0424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7A38-5F22-46C7-BA05-4B0AD7B94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9239-F50B-488F-A64B-448B1D424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CF5F-0671-4894-9A59-9B6AD7D6F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2263-8133-4B95-94CF-5E5648A9B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B3CF-4F87-4005-9BD5-938DD1A3F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1DE3-BFC3-4BB9-99CE-B0D715EAB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9014-9882-46ED-9759-ED523A284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D2F7-E030-4831-B5B4-A1E15E180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D672-8B32-4EC8-B379-3467D0BFD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3310-6BA3-4CEB-B385-0765B4098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9069-A83F-421C-AE6C-32EE2CC41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010C-90EB-4B50-80F1-8DD7324AD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02B6A7-E3F3-473A-823A-3F10C90B676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