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05160"/>
        <c:axId val="23439508"/>
      </c:barChart>
      <c:catAx>
        <c:axId val="36005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39508"/>
        <c:crosses val="autoZero"/>
        <c:auto val="1"/>
        <c:lblAlgn val="ctr"/>
        <c:lblOffset val="100"/>
        <c:noMultiLvlLbl val="0"/>
      </c:catAx>
      <c:valAx>
        <c:axId val="23439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05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C21-3528-4769-B3EE-5A167E00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509-34F7-4226-B829-0F34C4F1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D60-5B14-48CE-9DD5-186D9832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22C-5DDB-4F35-BAB7-4FA8310B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07E-CFB5-46E5-9C68-2A7C7692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E28-7DB5-4205-B0A6-3EC1749C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B53-D7FD-490A-889C-3A033FAF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ADA-08B7-4FE9-97D6-63C09356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751-C8EE-41BF-BAC0-E1190FE6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63A-371C-46E4-88F2-8CFD3A14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FCE-5B6A-479A-ADC0-0559131F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ADD-AAFE-4DBD-BA70-FDAABB69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96E50-9BBD-44BD-B965-EA487D8492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