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538394"/>
        <c:axId val="14091009"/>
      </c:barChart>
      <c:catAx>
        <c:axId val="735383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91009"/>
        <c:crosses val="autoZero"/>
        <c:auto val="1"/>
        <c:lblAlgn val="ctr"/>
        <c:lblOffset val="100"/>
        <c:noMultiLvlLbl val="0"/>
      </c:catAx>
      <c:valAx>
        <c:axId val="140910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383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4D6-81CF-42FB-8D75-ECE68385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A65-1C92-484E-9AA1-601332BA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765-23D6-4645-A724-B119AC49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35C-A440-4C6C-AFF4-8526284D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0C82-5036-4B45-B251-665D050D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7C3C-796D-4B5D-8FC5-6D84CD7C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550-58E6-426A-B4A8-E9ABFD14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43C9-EE40-4370-9B14-4AA434B1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7D1-45F6-4D44-8269-FAB5ABC1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EB6-0983-4E79-B2ED-A4B36475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4BA-8FBB-4FB6-ABB6-A7AF0729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FDE-73B5-433D-BE1C-A82588FE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D9A50-1966-45D7-8B3B-87E11BEC56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