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7954"/>
        <c:axId val="10212418"/>
      </c:barChart>
      <c:catAx>
        <c:axId val="6457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12418"/>
        <c:crosses val="autoZero"/>
        <c:auto val="1"/>
        <c:lblAlgn val="ctr"/>
        <c:lblOffset val="100"/>
        <c:noMultiLvlLbl val="0"/>
      </c:catAx>
      <c:valAx>
        <c:axId val="10212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8C7-17FC-458D-87F2-BD5F303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DD1-E7F5-4832-B825-7F421D3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387-DE14-4C93-8C9D-F4E6C646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03C-AEBE-47C8-A490-53C9981D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ED5-A891-4CE1-97FE-A05C6B3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ACF-BA48-4E1B-A0D1-D14FECA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3D3-5CA4-4785-9512-1850ADA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4EB-38CA-4554-B577-6438221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56A-541B-4BF8-9174-A6AB048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213-000C-4A4E-8AF5-BB22F40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406-B598-4F2F-BCA1-0D27A1B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622-66A8-47BC-B14C-01E8C03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2A009-1927-42C1-8A06-ACE887C727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