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95729"/>
        <c:axId val="91418765"/>
      </c:barChart>
      <c:catAx>
        <c:axId val="77295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18765"/>
        <c:crosses val="autoZero"/>
        <c:auto val="1"/>
        <c:lblAlgn val="ctr"/>
        <c:lblOffset val="100"/>
        <c:noMultiLvlLbl val="0"/>
      </c:catAx>
      <c:valAx>
        <c:axId val="91418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95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1E5-C2E9-4705-9DCD-B5822253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216-0ACE-4D85-8254-59582087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394-A14F-4755-922E-411389D9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12D-9FEC-4F2F-AFBE-B28A9D24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9BB-AED7-42E9-A6C2-462C2B62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0FC-3722-4A3B-AA44-9CE4033A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F84-01C6-49E4-82B9-3D1BFDD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DEC-3166-4061-9BA6-C7A0985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701-6789-4808-A0A6-8E9648D2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7C0-2821-4AA7-8EC5-09C116C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E21-A59A-4E6F-8486-83E9B872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9B2-4BA7-4119-AD58-DFCE006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13079-C4DA-4444-903B-F3F96FD6AB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