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76066"/>
        <c:axId val="30091038"/>
      </c:barChart>
      <c:catAx>
        <c:axId val="19576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91038"/>
        <c:crosses val="autoZero"/>
        <c:auto val="1"/>
        <c:lblAlgn val="ctr"/>
        <c:lblOffset val="100"/>
        <c:noMultiLvlLbl val="0"/>
      </c:catAx>
      <c:valAx>
        <c:axId val="30091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76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A3E-B9FD-4B58-916A-6AB50E89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6A7-BD81-4EE7-A570-ED388231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93B-9421-48FC-8D6A-E05BB7E1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DF1-D877-4B76-9F68-04267481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A86-7DEE-454F-920F-82279CC8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654-CFC3-43FC-8054-5A8787FB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0D8-A15D-42FC-8C20-BE158919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18B-002A-4CD1-9D68-CEDD76D5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49B-C783-41FC-A46D-256C841F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1C5-B707-4E9A-9F1C-4EB0DB87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E32-1B7A-4159-8A5A-53C2A5DF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FE9-DCD4-4563-8D3B-4A67492C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96349-CEC1-41FE-BC75-7177454765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