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7823"/>
        <c:axId val="75657039"/>
      </c:barChart>
      <c:catAx>
        <c:axId val="9417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57039"/>
        <c:crosses val="autoZero"/>
        <c:auto val="1"/>
        <c:lblAlgn val="ctr"/>
        <c:lblOffset val="100"/>
        <c:noMultiLvlLbl val="0"/>
      </c:catAx>
      <c:valAx>
        <c:axId val="75657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7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A0F-26C8-49A0-A742-2CEE38D0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272-10AB-4ABA-AF92-F8D2A0B5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3A3-CC69-4034-B66A-B6C3E082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4B6-C291-4739-B57C-EA0E5F65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D17-5BDA-43BC-849E-6165EEDF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891-6D87-4F35-873E-F23CC7A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D6F-2CE5-400B-99E3-B10A6BF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D00-CB41-4B8C-BB42-B589B609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0A7-F8F4-4B17-91AC-1E09649E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6A2-9335-4FC4-9F2C-BB066A0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1FE-30D8-4BCB-92AE-B308C85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B01-F605-43F2-9135-B32854BF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D188C-7C02-4284-848C-3639C5D3BB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