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214830"/>
        <c:axId val="12170210"/>
      </c:barChart>
      <c:catAx>
        <c:axId val="912148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70210"/>
        <c:crosses val="autoZero"/>
        <c:auto val="1"/>
        <c:lblAlgn val="ctr"/>
        <c:lblOffset val="100"/>
        <c:noMultiLvlLbl val="0"/>
      </c:catAx>
      <c:valAx>
        <c:axId val="121702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148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D4B5-AD27-4F52-91A1-4543572D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5B8B-920F-4D46-9CFD-21E271B1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62CC-831C-4DE1-833B-E404D31F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BFA2-20F3-4EDD-B910-C2A1428C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7748-E198-43D4-B602-ACF89EB8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75DB-2302-408D-82D1-DE238903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94B5-6C15-4403-AD75-149B9743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D7A6-A29C-4A2B-9648-7F08FD04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18CD-93C7-4F18-9A7C-59F8732D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380D-63BB-465E-A98A-3D785F4E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2F61-6AC3-42B4-AAF9-B1E64556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9551-F619-4C53-94CA-F2341695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F3733-5490-4949-83AF-0BBF31C348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