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72810"/>
        <c:axId val="8328058"/>
      </c:barChart>
      <c:catAx>
        <c:axId val="82772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8058"/>
        <c:crosses val="autoZero"/>
        <c:auto val="1"/>
        <c:lblAlgn val="ctr"/>
        <c:lblOffset val="100"/>
        <c:noMultiLvlLbl val="0"/>
      </c:catAx>
      <c:valAx>
        <c:axId val="8328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72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222-A78C-41B2-9C6A-55A09B91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1BA-106A-408F-88F7-E6151888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0F9-9B4E-4A34-882C-C7CED319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E62-9C33-49C7-962E-8D1DCBDD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3F1-73E0-491C-AD8A-DFB99DD1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70E-B8B7-45A6-87BD-1CB4A77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25F-0AD8-4AD5-AFEF-7FC8348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20F-A228-4FBE-B591-E70CF5CE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452-1232-4EF8-81BD-D4608CB1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783-C6C8-4A5F-8E1C-17964C61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876-185C-4AEB-8D0E-56A9DE9B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F7E-10A7-44AF-A660-C9213B12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E0373-A3A5-4884-A407-D8F8AFB634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