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13811"/>
        <c:axId val="4964021"/>
      </c:barChart>
      <c:catAx>
        <c:axId val="62513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4021"/>
        <c:crosses val="autoZero"/>
        <c:auto val="1"/>
        <c:lblAlgn val="ctr"/>
        <c:lblOffset val="100"/>
        <c:noMultiLvlLbl val="0"/>
      </c:catAx>
      <c:valAx>
        <c:axId val="4964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13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5E6-886E-4422-9189-1A092D62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979-7E0F-4639-B41A-BC6DC579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6A3-F52A-4E0E-BDAC-0DF3D4B4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2E0-D44D-45A5-9527-6980AF75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A57-B6D8-490F-B63F-EBF5F0AA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963-C3A1-48ED-BAAC-1E69E725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4E1-A093-406E-9F2B-2AB90082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26E-F89A-4429-9DDD-3AA3DC94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3A0-231E-4EFB-8136-5E47C60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F55-A747-4E80-9A0F-F5AC83E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057-57B1-4962-B319-4C9D501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521-33EF-4643-A4AE-CBCE3A8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EC7C6-1F5E-41D9-A45C-00393C06EC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