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0963"/>
        <c:axId val="15901073"/>
      </c:barChart>
      <c:catAx>
        <c:axId val="40540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01073"/>
        <c:crosses val="autoZero"/>
        <c:auto val="1"/>
        <c:lblAlgn val="ctr"/>
        <c:lblOffset val="100"/>
        <c:noMultiLvlLbl val="0"/>
      </c:catAx>
      <c:valAx>
        <c:axId val="15901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0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5D3-4ED1-43C9-8505-335243D5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CAC-D91C-4A06-A928-D5EC96C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CBC-DC3B-4B18-AB87-7DE9996C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29B-17F6-4A51-84A9-2AA8313A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777-E2AD-441D-B20E-7E1E7AC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A67-8132-4A80-8702-500283F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47E-6D11-4DB2-A7ED-9BBF632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597-4755-4CB7-8D97-F558C76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7A6-A043-4773-B5FB-F4CD0BC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024-C7BA-4D30-B296-92EE558E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A65-844A-404B-88B8-9ACAAD8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71B-48DE-44FE-B2C0-29B6B9A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B4F19-9EE7-4F1A-BC93-E813D5282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