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879930"/>
        <c:axId val="62147049"/>
      </c:barChart>
      <c:catAx>
        <c:axId val="478799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47049"/>
        <c:crosses val="autoZero"/>
        <c:auto val="1"/>
        <c:lblAlgn val="ctr"/>
        <c:lblOffset val="100"/>
        <c:noMultiLvlLbl val="0"/>
      </c:catAx>
      <c:valAx>
        <c:axId val="62147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799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574-13D9-47FC-9FCC-1C8B2CEC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2654-622C-4A7A-ABAA-8278C616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282-88F8-4A13-A86C-D6671414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B99-A980-4169-A5EC-39CA2B95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38E-097D-4F6E-BF37-F152D8C1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EAE5-D7BE-4F9C-A39D-AAF88A87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3A92-891C-4F73-A602-05B8EB5C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C49-DBFD-46DD-AF39-97EFFAE3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C66-3745-409D-AA34-B0DE5F7D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5078-272F-45B8-95D1-A0F68A15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0E3-E4EE-4B73-A48D-3A347721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9275-0796-43C5-89BF-31E52C83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43642-8D57-4BE4-A916-C502BAD07E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