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53397"/>
        <c:axId val="66403764"/>
      </c:barChart>
      <c:catAx>
        <c:axId val="98653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03764"/>
        <c:crosses val="autoZero"/>
        <c:auto val="1"/>
        <c:lblAlgn val="ctr"/>
        <c:lblOffset val="100"/>
        <c:noMultiLvlLbl val="0"/>
      </c:catAx>
      <c:valAx>
        <c:axId val="66403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3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826-4AE5-42B5-B2BE-7F1F2417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433-BF9D-4CA1-A102-B7AE5FAC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BBA-B205-4033-A131-26F9FE84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DF4-EDCD-40CC-82D5-B706A2B1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604-7836-4C6E-923C-D56190E1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5FC-06B8-4B56-AFEE-BECAA610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0EC-C3B9-4865-BA6F-B8552865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90B-9D39-4A93-864B-5F09FAA9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3CD-C526-47C0-928D-AB0CC4B3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9C0-7788-45ED-BAF5-A3BA5DA2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7EE-DB2B-44C4-9E4B-F684D197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8D6-A7E3-4AE7-9044-002AA955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717AD-185F-4D09-BA86-C2BBF78367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