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96908"/>
        <c:axId val="28044857"/>
      </c:barChart>
      <c:catAx>
        <c:axId val="19696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4857"/>
        <c:crosses val="autoZero"/>
        <c:auto val="1"/>
        <c:lblAlgn val="ctr"/>
        <c:lblOffset val="100"/>
        <c:noMultiLvlLbl val="0"/>
      </c:catAx>
      <c:valAx>
        <c:axId val="28044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6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E61-E428-49E2-8365-3B35DFFC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6A7-06D2-40E6-93D4-4B9903E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145-B4BC-44E6-837E-9E955FAD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CD5-1E67-4DFD-A612-36079EBD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A5B-9655-4797-8E79-90A03ED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656-2F34-4E0D-8479-ABD7E790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C73-B2A5-4876-9746-4920133D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FD7-857C-40E6-928C-E731FAAE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E8A-9A29-4CBF-8609-F324E89C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ADF-5376-4263-8F37-7CAE0CD8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71C-93E2-4784-91BF-B79C58A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BEA-BE13-4342-B94A-6E7721C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8D2A-CBD7-468B-AF9E-0380543FE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