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04322"/>
        <c:axId val="94962468"/>
      </c:barChart>
      <c:catAx>
        <c:axId val="7380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62468"/>
        <c:crosses val="autoZero"/>
        <c:auto val="1"/>
        <c:lblAlgn val="ctr"/>
        <c:lblOffset val="100"/>
        <c:noMultiLvlLbl val="0"/>
      </c:catAx>
      <c:valAx>
        <c:axId val="94962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30A-C726-41BD-9399-2877EB3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AF1-466E-4CF5-9342-91B45E86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F83-368B-4027-8095-B022CDC1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C9A-F2F3-4E09-B6BE-640CF665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726-BE62-44CA-84DC-BB390C28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B37-F8A3-4909-9ED3-76A146FB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A7F-956D-4AE3-B7F5-975B25A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922-973C-42B5-8591-A22B5125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23A-B472-4679-BE51-45965D5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46E-71E9-498D-A51D-BF4EEF8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092-5E24-41CF-8BBC-2DB6D9E4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672-609F-4362-9026-125A84A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E184-94B5-45CE-9FC7-E2A7909B8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