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25413"/>
        <c:axId val="64413018"/>
      </c:barChart>
      <c:catAx>
        <c:axId val="55625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13018"/>
        <c:crosses val="autoZero"/>
        <c:auto val="1"/>
        <c:lblAlgn val="ctr"/>
        <c:lblOffset val="100"/>
        <c:noMultiLvlLbl val="0"/>
      </c:catAx>
      <c:valAx>
        <c:axId val="64413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25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EC3-E01B-46BB-8AD7-C83D4D14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93F-8AB5-414F-87C8-953DB8AB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395-BAA6-4775-83D2-3EDE06E1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E61-AB2B-4259-AE3B-AE872E39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CE0-309D-48E7-A6D0-E2D4D041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83C-E7F3-45C9-B5DA-A897986D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EC0-9995-4562-B86E-5F9F8E17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D73-5917-4A97-AA85-18B434A5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9CE-DEDA-4A42-9174-2F4E49A5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787-3FBB-4EF1-A2CA-DE7D69A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872-EE05-4157-A48E-29ABC0C9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7CB-043B-4939-8932-4583497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8F0B4-3157-40C1-8B11-4F2009C76E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